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DF54-828F-41EF-945D-B2FA55111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680C-5BC1-4780-8B92-5E32041B69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3702-8975-4E7E-982A-566F527C97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99B3-F095-4F9B-B725-22DE3D7B8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1597-74F4-4440-9CBA-45C75FB64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78F0-5BBD-4FD9-A895-6764DBEA3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90760" y="2077920"/>
            <a:ext cx="41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E0EE-B5F5-46D1-AD9B-F9085C4B35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DFAB-F745-42B3-8732-510E71667F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319E-3CB1-46C5-9BA0-60BD7664A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92CD-ADC5-4C30-9B51-23AC79C8F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9FED-A6ED-4784-8738-8DDDB3293C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26EC-A1D4-4197-8CF3-9465711352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D5A4-42D2-4A65-932C-E1F146C61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6487-5FE9-4A46-B4CA-57FCFC6960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FB2-9E82-4D25-B9BB-2A8797454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underline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032600" y="66279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cc"/>
                </a:solidFill>
                <a:latin typeface="Arial"/>
                <a:ea typeface="Arial"/>
              </a:rPr>
              <a:t>© Boardworks Ltd 2003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" name="Picture 9" descr="swish"/>
          <p:cNvPicPr/>
          <p:nvPr/>
        </p:nvPicPr>
        <p:blipFill>
          <a:blip r:embed="rId3"/>
          <a:stretch/>
        </p:blipFill>
        <p:spPr>
          <a:xfrm>
            <a:off x="0" y="574560"/>
            <a:ext cx="7236000" cy="2192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boardworks_logo"/>
          <p:cNvPicPr/>
          <p:nvPr/>
        </p:nvPicPr>
        <p:blipFill>
          <a:blip r:embed="rId4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left_button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3"/>
          <p:cNvSpPr/>
          <p:nvPr/>
        </p:nvSpPr>
        <p:spPr>
          <a:xfrm>
            <a:off x="0" y="6597720"/>
            <a:ext cx="11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B813-23B7-4A10-A37F-EC3B7D4009BF}" type="slidenum"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of 20</a:t>
            </a:r>
            <a:endParaRPr b="0" lang="en-US" sz="16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10066"/>
                </a:solidFill>
                <a:latin typeface="Arial"/>
              </a:rPr>
              <a:t>Creating a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0091"/>
                </a:solidFill>
                <a:latin typeface="Arial"/>
              </a:rPr>
              <a:t>Handl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Designing Structure, Capturing and Presen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text_frame"/>
          <p:cNvPicPr/>
          <p:nvPr/>
        </p:nvPicPr>
        <p:blipFill>
          <a:blip r:embed="rId2"/>
          <a:stretch/>
        </p:blipFill>
        <p:spPr>
          <a:xfrm>
            <a:off x="1258920" y="5877000"/>
            <a:ext cx="6842160" cy="79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627280" y="638172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For more detailed instructions, see the </a:t>
            </a:r>
            <a:r>
              <a:rPr b="0" i="1" lang="en-GB" sz="1000" spc="-1" strike="noStrike">
                <a:solidFill>
                  <a:srgbClr val="010066"/>
                </a:solidFill>
                <a:latin typeface="Arial"/>
              </a:rPr>
              <a:t>Getting Started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presentation.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54" name="Picture 8" descr="flash icon"/>
          <p:cNvPicPr/>
          <p:nvPr/>
        </p:nvPicPr>
        <p:blipFill>
          <a:blip r:embed="rId3"/>
          <a:stretch/>
        </p:blipFill>
        <p:spPr>
          <a:xfrm>
            <a:off x="1677960" y="6093000"/>
            <a:ext cx="301680" cy="30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1908000" y="6093000"/>
            <a:ext cx="568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This icon indicates the slide contains activities created in Flash. These activities are not editable.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56" name="Picture 10" descr="macromedia flash logo"/>
          <p:cNvPicPr/>
          <p:nvPr/>
        </p:nvPicPr>
        <p:blipFill>
          <a:blip r:embed="rId4"/>
          <a:stretch/>
        </p:blipFill>
        <p:spPr>
          <a:xfrm>
            <a:off x="179280" y="138240"/>
            <a:ext cx="952560" cy="26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9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ShockwaveFlash1"/>
          <p:cNvGraphicFramePr/>
          <p:nvPr/>
        </p:nvGraphicFramePr>
        <p:xfrm>
          <a:off x="539640" y="836640"/>
          <a:ext cx="8136000" cy="518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836640"/>
                    <a:ext cx="8136000" cy="5184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9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Let</a:t>
            </a:r>
            <a:r>
              <a:rPr b="0" lang="ja-JP" sz="2800" spc="-1" strike="noStrike">
                <a:solidFill>
                  <a:srgbClr val="5b0091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s get it right?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34" name="Picture 49" descr=""/>
          <p:cNvPicPr/>
          <p:nvPr/>
        </p:nvPicPr>
        <p:blipFill>
          <a:blip r:embed="rId2"/>
          <a:srcRect l="6524" t="17249" r="28272" b="62924"/>
          <a:stretch/>
        </p:blipFill>
        <p:spPr>
          <a:xfrm>
            <a:off x="971640" y="4923000"/>
            <a:ext cx="7345440" cy="1674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0"/>
          <p:cNvSpPr/>
          <p:nvPr/>
        </p:nvSpPr>
        <p:spPr>
          <a:xfrm>
            <a:off x="539640" y="443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ere are some mor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fiel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mes and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 typ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36" name="Rectangle 51"/>
          <p:cNvSpPr/>
          <p:nvPr/>
        </p:nvSpPr>
        <p:spPr>
          <a:xfrm>
            <a:off x="539640" y="8985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elds are of a certain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 typ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For example, Name and Surname ar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tex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; Date of birth is not text but 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37" name="Picture 52" descr=""/>
          <p:cNvPicPr/>
          <p:nvPr/>
        </p:nvPicPr>
        <p:blipFill>
          <a:blip r:embed="rId3"/>
          <a:srcRect l="6391" t="18213" r="26936" b="64197"/>
          <a:stretch/>
        </p:blipFill>
        <p:spPr>
          <a:xfrm>
            <a:off x="1979640" y="1844640"/>
            <a:ext cx="4680000" cy="1800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9"/>
          <p:cNvSpPr/>
          <p:nvPr/>
        </p:nvSpPr>
        <p:spPr>
          <a:xfrm>
            <a:off x="3276720" y="3789360"/>
            <a:ext cx="223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1116000" y="2085840"/>
            <a:ext cx="790560" cy="45972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40" name="Text Box 61"/>
          <p:cNvSpPr/>
          <p:nvPr/>
        </p:nvSpPr>
        <p:spPr>
          <a:xfrm>
            <a:off x="6805440" y="2085840"/>
            <a:ext cx="790920" cy="45972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cxnSp>
        <p:nvCxnSpPr>
          <p:cNvPr id="141" name="AutoShape 62"/>
          <p:cNvCxnSpPr>
            <a:stCxn id="140" idx="2"/>
            <a:endCxn id="138" idx="3"/>
          </p:cNvCxnSpPr>
          <p:nvPr/>
        </p:nvCxnSpPr>
        <p:spPr>
          <a:xfrm rot="5400000">
            <a:off x="5618160" y="2437200"/>
            <a:ext cx="1473840" cy="169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63"/>
          <p:cNvCxnSpPr>
            <a:stCxn id="139" idx="2"/>
            <a:endCxn id="138" idx="1"/>
          </p:cNvCxnSpPr>
          <p:nvPr/>
        </p:nvCxnSpPr>
        <p:spPr>
          <a:xfrm flipH="1" rot="16200000">
            <a:off x="1657440" y="2399760"/>
            <a:ext cx="1473840" cy="176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Line 67"/>
          <p:cNvSpPr/>
          <p:nvPr/>
        </p:nvSpPr>
        <p:spPr>
          <a:xfrm flipH="1">
            <a:off x="6156000" y="2276640"/>
            <a:ext cx="64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44" name="Line 68"/>
          <p:cNvSpPr/>
          <p:nvPr/>
        </p:nvSpPr>
        <p:spPr>
          <a:xfrm>
            <a:off x="1908000" y="2349360"/>
            <a:ext cx="576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8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9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ShockwaveFlash1"/>
          <p:cNvGraphicFramePr/>
          <p:nvPr/>
        </p:nvGraphicFramePr>
        <p:xfrm>
          <a:off x="360360" y="836640"/>
          <a:ext cx="8532720" cy="518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" y="836640"/>
                    <a:ext cx="8532720" cy="5184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898560" y="112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Using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 typ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ensures that the data in the record is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vali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898560" y="2060640"/>
            <a:ext cx="76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is means that if you try and typ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tex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e/tim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data type the program will not allow it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istak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e reduced by making sure the data is valid. However validation would not stop you typing in the wrong date!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98560" y="407664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ost database programs allow the user to creat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validation check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such as the following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898560" y="508464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haracter type (number or letter or both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ength of field (how many characters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ange (specify from and to, for example from 1 to 20)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53" name="Picture 11" descr="right_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4"/>
          <p:cNvSpPr/>
          <p:nvPr/>
        </p:nvSpPr>
        <p:spPr>
          <a:xfrm>
            <a:off x="71280" y="7128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Work it out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55" name="Picture 35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6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2"/>
          <p:cNvSpPr/>
          <p:nvPr/>
        </p:nvSpPr>
        <p:spPr>
          <a:xfrm>
            <a:off x="2782080" y="609300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Use the keyboard to try out the data.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graphicFrame>
        <p:nvGraphicFramePr>
          <p:cNvPr id="158" name="ShockwaveFlash1"/>
          <p:cNvGraphicFramePr/>
          <p:nvPr/>
        </p:nvGraphicFramePr>
        <p:xfrm>
          <a:off x="468360" y="765000"/>
          <a:ext cx="8207280" cy="532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765000"/>
                    <a:ext cx="8207280" cy="532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898560" y="107964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 addition to validating information you must also 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verif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he information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898560" y="23385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ot all data can be validated – for example, a spelling mistake or an incorrect amount entered may not be picked up by the validation proces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898560" y="3933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is is where the data has to be verified. 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898560" y="4724280"/>
            <a:ext cx="69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is is easily done by checking the data entered against the original document, or getting somebody else to ensure that the data being input is correct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64" name="Picture 9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Searching and sorting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8985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database program is extremely useful for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earchin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he data stored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67" name="Picture 6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539640" y="177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you search, you may want to find a particular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recor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search for the record for 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J Vincent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39640" y="278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ou can search for more than one record: for example, search for all the </a:t>
            </a:r>
            <a:r>
              <a:rPr b="0" lang="en-GB" sz="2400" spc="-1" strike="noStrike">
                <a:solidFill>
                  <a:srgbClr val="5b0091"/>
                </a:solidFill>
                <a:latin typeface="Arial"/>
              </a:rPr>
              <a:t>recor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where the </a:t>
            </a:r>
            <a:r>
              <a:rPr b="0" lang="en-GB" sz="2400" spc="-1" strike="noStrike">
                <a:solidFill>
                  <a:srgbClr val="5b0091"/>
                </a:solidFill>
                <a:latin typeface="Arial"/>
              </a:rPr>
              <a:t>fiel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urnam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equals (=) Vincent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9640" y="407664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more detail, you can search for </a:t>
            </a:r>
            <a:r>
              <a:rPr b="0" lang="en-GB" sz="2400" spc="-1" strike="noStrike">
                <a:solidFill>
                  <a:srgbClr val="5b0091"/>
                </a:solidFill>
                <a:latin typeface="Arial"/>
              </a:rPr>
              <a:t>recor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with 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combinatio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of fields: for example, search for all the records where the field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urnam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Vincent and th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e of birth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02/02/1980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ShockwaveFlash1"/>
          <p:cNvGraphicFramePr/>
          <p:nvPr/>
        </p:nvGraphicFramePr>
        <p:xfrm>
          <a:off x="324000" y="981000"/>
          <a:ext cx="849600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981000"/>
                    <a:ext cx="849600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539640" y="8985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orting is another useful feature of a databas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76" name="Picture 6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539640" y="14540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you sort you may want to sort by a particular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fiel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for example, sort by 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9640" y="2421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ou can sort by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ore than one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eld, for example you can sort by field 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nd field 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urname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39640" y="335772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ou can choose which order you would like the sort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400536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scending order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– starting with the letter A or smallest number and going up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74560" y="537372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escending order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– starting with the letter Z or largest number and going down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ShockwaveFlash1"/>
          <p:cNvGraphicFramePr/>
          <p:nvPr/>
        </p:nvGraphicFramePr>
        <p:xfrm>
          <a:off x="324000" y="907920"/>
          <a:ext cx="8424720" cy="511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907920"/>
                    <a:ext cx="842472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What is a database?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58" name="Text Box 77"/>
          <p:cNvSpPr/>
          <p:nvPr/>
        </p:nvSpPr>
        <p:spPr>
          <a:xfrm>
            <a:off x="3997440" y="4724280"/>
            <a:ext cx="1295280" cy="642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66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59" name="Text Box 80"/>
          <p:cNvSpPr/>
          <p:nvPr/>
        </p:nvSpPr>
        <p:spPr>
          <a:xfrm>
            <a:off x="928944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60" name="Picture 89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1"/>
          <p:cNvSpPr/>
          <p:nvPr/>
        </p:nvSpPr>
        <p:spPr>
          <a:xfrm>
            <a:off x="525960" y="306864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ender: mal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2" name="Rectangle 92"/>
          <p:cNvSpPr/>
          <p:nvPr/>
        </p:nvSpPr>
        <p:spPr>
          <a:xfrm>
            <a:off x="2989080" y="112536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me: Mr James Brown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3" name="Rectangle 93"/>
          <p:cNvSpPr/>
          <p:nvPr/>
        </p:nvSpPr>
        <p:spPr>
          <a:xfrm>
            <a:off x="5296320" y="184464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alary £30,00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4" name="Rectangle 94"/>
          <p:cNvSpPr/>
          <p:nvPr/>
        </p:nvSpPr>
        <p:spPr>
          <a:xfrm>
            <a:off x="4430160" y="270828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arital status: singl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5" name="Rectangle 95"/>
          <p:cNvSpPr/>
          <p:nvPr/>
        </p:nvSpPr>
        <p:spPr>
          <a:xfrm>
            <a:off x="1405080" y="42210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lood type: A+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6" name="Rectangle 96"/>
          <p:cNvSpPr/>
          <p:nvPr/>
        </p:nvSpPr>
        <p:spPr>
          <a:xfrm>
            <a:off x="4860720" y="364500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ddress: 6 High Street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401400" y="196380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lephone: 0170 88691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539640" y="898560"/>
            <a:ext cx="8280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bas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collection of information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ich is stored in a way that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can easily be accessed and fou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atabases are used by most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organizati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tore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formation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database is made up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fil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ach file is made up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recor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ach record is made up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fiel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elds have a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 typ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ata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ust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validate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verifie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o avoid mistake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database can be used to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earch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or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data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71280" y="71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88" name="Picture 9" descr="boyhead2"/>
          <p:cNvPicPr/>
          <p:nvPr/>
        </p:nvPicPr>
        <p:blipFill>
          <a:blip r:embed="rId9"/>
          <a:stretch/>
        </p:blipFill>
        <p:spPr>
          <a:xfrm>
            <a:off x="826920" y="5803920"/>
            <a:ext cx="1476720" cy="8668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4500720" y="5589720"/>
            <a:ext cx="2808000" cy="1268280"/>
          </a:xfrm>
          <a:prstGeom prst="cloudCallout">
            <a:avLst>
              <a:gd name="adj1" fmla="val -130101"/>
              <a:gd name="adj2" fmla="val -24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0091"/>
                </a:solidFill>
                <a:latin typeface="Arial"/>
              </a:rPr>
              <a:t>What can I remember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0" name="WordArt 10"/>
          <p:cNvSpPr txBox="1"/>
          <p:nvPr/>
        </p:nvSpPr>
        <p:spPr>
          <a:xfrm>
            <a:off x="7454880" y="6093000"/>
            <a:ext cx="158112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411280" y="907920"/>
            <a:ext cx="4176720" cy="3673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9280" y="105264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me: Mr James Brown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17840" y="1557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lephone: 0170 88691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19640" y="20350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ender: mal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519280" y="256536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ddress: 6 High Street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19640" y="304308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lood type: A+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521440" y="354816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alary £30,00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520360" y="407664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arital status: singl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97440" y="4724280"/>
            <a:ext cx="1295280" cy="642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66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39640" y="55166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bas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a collection (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bas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hat can b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ccesse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informatio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4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Who uses databases?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80" name="Picture 57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0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ShockwaveFlash1"/>
          <p:cNvGraphicFramePr/>
          <p:nvPr/>
        </p:nvGraphicFramePr>
        <p:xfrm>
          <a:off x="755640" y="1052640"/>
          <a:ext cx="7704000" cy="540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052640"/>
                    <a:ext cx="7704000" cy="540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9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Who uses databases?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85" name="Picture 70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1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ShockwaveFlash1"/>
          <p:cNvGraphicFramePr/>
          <p:nvPr/>
        </p:nvGraphicFramePr>
        <p:xfrm>
          <a:off x="324000" y="836640"/>
          <a:ext cx="842616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36640"/>
                    <a:ext cx="842616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For the record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8985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fore computers were around, organizations kept information on record cards in card boxes, or on sheets of paper in files and filing cabinets.                                         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91" name="Picture 30" descr="filingcabinet"/>
          <p:cNvPicPr/>
          <p:nvPr/>
        </p:nvPicPr>
        <p:blipFill>
          <a:blip r:embed="rId1"/>
          <a:stretch/>
        </p:blipFill>
        <p:spPr>
          <a:xfrm>
            <a:off x="2411280" y="2492280"/>
            <a:ext cx="1638360" cy="1695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1"/>
          <p:cNvSpPr/>
          <p:nvPr/>
        </p:nvSpPr>
        <p:spPr>
          <a:xfrm>
            <a:off x="539640" y="4581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se days, most databases are created and stored on a computer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93" name="Picture 32" descr="files"/>
          <p:cNvPicPr/>
          <p:nvPr/>
        </p:nvPicPr>
        <p:blipFill>
          <a:blip r:embed="rId2"/>
          <a:stretch/>
        </p:blipFill>
        <p:spPr>
          <a:xfrm>
            <a:off x="5435640" y="2637000"/>
            <a:ext cx="1638360" cy="123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right_button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ile"/>
          <p:cNvSpPr/>
          <p:nvPr/>
        </p:nvSpPr>
        <p:spPr>
          <a:xfrm>
            <a:off x="3419640" y="4869000"/>
            <a:ext cx="2950920" cy="158256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339120 h 1582560"/>
              <a:gd name="textAreaBottom" fmla="*/ 1486800 h 1582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6" name="Text Box 115"/>
          <p:cNvSpPr/>
          <p:nvPr/>
        </p:nvSpPr>
        <p:spPr>
          <a:xfrm>
            <a:off x="1079640" y="3508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7" name="Text Box 117"/>
          <p:cNvSpPr/>
          <p:nvPr/>
        </p:nvSpPr>
        <p:spPr>
          <a:xfrm>
            <a:off x="3492360" y="5016600"/>
            <a:ext cx="2951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66"/>
                </a:solidFill>
                <a:latin typeface="Arial"/>
              </a:rPr>
              <a:t>J. Vincent</a:t>
            </a:r>
            <a:endParaRPr b="0" lang="en-US" sz="1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66"/>
                </a:solidFill>
                <a:latin typeface="Arial"/>
              </a:rPr>
              <a:t>Address: 6 Broad Lane, Winsford</a:t>
            </a:r>
            <a:endParaRPr b="0" lang="en-US" sz="1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66"/>
                </a:solidFill>
                <a:latin typeface="Arial"/>
              </a:rPr>
              <a:t>Telephone: 0987 654675</a:t>
            </a:r>
            <a:endParaRPr b="0" lang="en-US" sz="1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66"/>
                </a:solidFill>
                <a:latin typeface="Arial"/>
              </a:rPr>
              <a:t>Date of Birth: 02.05.1980</a:t>
            </a:r>
            <a:endParaRPr b="0" lang="en-US" sz="1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8" name="Text Box 129"/>
          <p:cNvSpPr/>
          <p:nvPr/>
        </p:nvSpPr>
        <p:spPr>
          <a:xfrm>
            <a:off x="1079640" y="530712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9" name="Text Box 131"/>
          <p:cNvSpPr/>
          <p:nvPr/>
        </p:nvSpPr>
        <p:spPr>
          <a:xfrm>
            <a:off x="539640" y="8985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n…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00" name="Picture 135" descr="filingcabinet"/>
          <p:cNvPicPr/>
          <p:nvPr/>
        </p:nvPicPr>
        <p:blipFill>
          <a:blip r:embed="rId1"/>
          <a:stretch/>
        </p:blipFill>
        <p:spPr>
          <a:xfrm>
            <a:off x="3851280" y="1268280"/>
            <a:ext cx="1638360" cy="169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6" descr="files"/>
          <p:cNvPicPr/>
          <p:nvPr/>
        </p:nvPicPr>
        <p:blipFill>
          <a:blip r:embed="rId2"/>
          <a:stretch/>
        </p:blipFill>
        <p:spPr>
          <a:xfrm>
            <a:off x="3995640" y="3429000"/>
            <a:ext cx="1295640" cy="979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7"/>
          <p:cNvSpPr/>
          <p:nvPr/>
        </p:nvSpPr>
        <p:spPr>
          <a:xfrm>
            <a:off x="1084320" y="170820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ling cabinet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03" name="Picture 140" descr="right_button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42880" y="89856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ow…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rcRect l="5584" t="15971" r="69214" b="79897"/>
          <a:stretch/>
        </p:blipFill>
        <p:spPr>
          <a:xfrm>
            <a:off x="3780000" y="1773360"/>
            <a:ext cx="1946160" cy="28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rcRect l="6391" t="18213" r="27800" b="71411"/>
          <a:stretch/>
        </p:blipFill>
        <p:spPr>
          <a:xfrm>
            <a:off x="3276720" y="5157720"/>
            <a:ext cx="3201840" cy="1166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1079640" y="1708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3"/>
          <a:srcRect l="5584" t="15971" r="56630" b="52529"/>
          <a:stretch/>
        </p:blipFill>
        <p:spPr>
          <a:xfrm>
            <a:off x="3348000" y="2546280"/>
            <a:ext cx="3024360" cy="2266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1079640" y="3508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079640" y="530712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11" name="Picture 11" descr="right_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rcRect l="6391" t="18213" r="26936" b="62087"/>
          <a:stretch/>
        </p:blipFill>
        <p:spPr>
          <a:xfrm>
            <a:off x="2268360" y="1484280"/>
            <a:ext cx="4464360" cy="2016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68360" y="2320920"/>
            <a:ext cx="1368360" cy="459720"/>
          </a:xfrm>
          <a:prstGeom prst="rect">
            <a:avLst/>
          </a:prstGeom>
          <a:noFill/>
          <a:ln w="3240">
            <a:solidFill>
              <a:srgbClr val="5b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635280" y="658800"/>
            <a:ext cx="1079640" cy="459720"/>
          </a:xfrm>
          <a:prstGeom prst="rect">
            <a:avLst/>
          </a:prstGeom>
          <a:noFill/>
          <a:ln w="9360">
            <a:solidFill>
              <a:srgbClr val="5b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eld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H="1">
            <a:off x="2843280" y="1125360"/>
            <a:ext cx="93672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 flipH="1">
            <a:off x="3563640" y="119700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211640" y="1197000"/>
            <a:ext cx="144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4427640" y="1197000"/>
            <a:ext cx="108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4643280" y="1052640"/>
            <a:ext cx="16574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079640" y="37162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ach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recor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made up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fiel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– categories of information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1835280" y="2852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1908000" y="2637000"/>
            <a:ext cx="287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1908000" y="2421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079640" y="4911840"/>
            <a:ext cx="73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fields here are Name, Surname, Address, Telephone and Date of birth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25" name="Picture 32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3"/>
          <p:cNvSpPr/>
          <p:nvPr/>
        </p:nvSpPr>
        <p:spPr>
          <a:xfrm>
            <a:off x="900000" y="952560"/>
            <a:ext cx="792360" cy="459720"/>
          </a:xfrm>
          <a:prstGeom prst="rect">
            <a:avLst/>
          </a:prstGeom>
          <a:noFill/>
          <a:ln w="3240">
            <a:solidFill>
              <a:srgbClr val="5b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1692360" y="1197000"/>
            <a:ext cx="718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14:33:10Z</dcterms:created>
  <dc:creator>Boardworks Ltd</dc:creator>
  <dc:description/>
  <dc:language>en-US</dc:language>
  <cp:lastModifiedBy>ladmin</cp:lastModifiedBy>
  <dcterms:modified xsi:type="dcterms:W3CDTF">2013-02-05T20:57:33Z</dcterms:modified>
  <cp:revision>164</cp:revision>
  <dc:subject/>
  <dc:title>Unit 6 b. Creating a Data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layBack">
    <vt:bool>0</vt:bool>
  </property>
</Properties>
</file>